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340-5E17-43CA-B209-F74B0E50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C8B-8386-4069-8A0E-B08A1A4C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679-F217-41C3-B5B7-A3A75AE2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D1C-E886-4A06-83DA-20012A14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69A4-5AFF-4FC0-80E9-AC72EAC8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6FC6-A599-4D02-8258-B08B2D6C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5A0F-890D-4202-9521-2405298E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45F0-E52C-47B9-8055-5C3D57B5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9B81-1175-4037-8078-512817DE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F280-8902-4E3F-BD77-79AC932F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4277-ACD5-46CA-8F2D-94DB2CC2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C61-2325-4344-8B30-AEAD2BF3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6BBA-D5D3-43F0-9BDC-8E677257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C674-7DA7-427E-9828-3F9B2ED6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EA39-0582-42E4-B910-AB3D34C0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E080-A8D3-4811-B070-D85C609C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6178-5244-4ED7-9151-9CCE3E2B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E5A-2B2B-46A0-A29A-775496B6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BAF-758B-4537-8D13-712479CC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EAC-5C99-41A9-B3F1-4A945C0D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903-9551-4F8A-B89D-D29CC3DA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EB9-0A5E-4A65-B685-87ED3AD8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7C4-2523-4719-AF54-DB7374EE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EC7-32C2-4038-BD8C-8283BE8E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4BF5-8F10-4B4C-85DC-502E98B7CA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FAAF-ABDC-41EA-A988-9E508076EC2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143000"/>
            <a:ext cx="8305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Sheltered English Instruction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rategies for the Second Language Lear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Plan Continu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lesson must outline specific ways to address the ESL student’s needs in reading and writing in the four major categories (preproduction, early production, speech emergence, and intermediate fluency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lesson plan needs a simulation idea, minimum of four internet sites, a project from each of the following technology programs: a video clip made from Movie Maker, a newsletter from Publisher, organizational idea from Inspiration, assessment collection model from excel, and information from word fi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lesson plan must include a grading rubric for the student’s final proje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heltered Courses—Content Are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 An instructional approach that helps LEP students learn content while acquiring Engl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the core curriculum accessible to LEP stud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ost English language acqui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 a success experience, strengthen self-concept, and ease process of accultu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haracteristics of Sheltered English Instruc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ipulative ori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-model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matic lear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erature-infu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lis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ed on commun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udent-cente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a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mplified Speec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ower spee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ear pronunc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r Simpler sentences and then high level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rolled vocabul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tatement, examples, synonyms, expan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t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mmar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-reading activ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vironmental pri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extua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 on the message; its meaning and the task to be accomplish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visu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realia, props, manipul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audio c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ody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graphs, charts, word webbing, mind mapp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ti-sens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matic te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Quick Chec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ssroom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ly motivatio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fortable atmosphe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stress on oral p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sitivity to cultural dif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itive reinforc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Merging Second Language Acquisition Theory and 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Sheltered Content Instruction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chers must:  function as a facilitator, providing student centered activities which foster the acquisition of knowled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the instruction comprehens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 on commun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aware of each student’s stage of p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understanding and accepting of errors in language p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con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 low anxiety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ild on students’ prior experi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Plan Requirement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sson is organized around an identifiable topic and clearly defined objectives—Matched to  USOE Core Curricul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emb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acher creates a positive learning situation (uses anticipatory set, positive reinforcement, appropriate learner feedback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acher frequently checks for understanding (student correction procedur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achers tries to lower affective filter by: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cepting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language respons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a safe environment that encourages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langua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lows students to volunteer answ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Plan Cont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hoose at least six of the suggestions listed below and incorporate in your lesson plan activities for stud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phic organizer (Venn diagram, webbing, map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suals (pictures, video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ipulatives or realia (“real objects”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stures/body language/ facial expressions (TP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ys attention to rate of spee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ifies vocabulary or rephra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peats key vocabulary &amp; puts language in contex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 opportunities for student to listen and speak (role play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s opportunities for students to read &amp; wri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operative learning grou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cabulary building games and exerci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ecify oth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7:06:20Z</dcterms:created>
  <dc:creator>708144</dc:creator>
  <dc:description/>
  <dc:language>en-US</dc:language>
  <cp:lastModifiedBy>708144</cp:lastModifiedBy>
  <dcterms:modified xsi:type="dcterms:W3CDTF">2006-12-05T17:34:24Z</dcterms:modified>
  <cp:revision>3</cp:revision>
  <dc:subject/>
  <dc:title>Sheltered English Instruction</dc:title>
</cp:coreProperties>
</file>